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ften we start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rades 3, 5, 7,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e hon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ind of vague , e.g. solve what kinds of problems, explain how, what variety of tools and strategies and why the variety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AY ATTENTION TO HOW YOU MAKE THE DECISIONS NOW- NO DISCLOSING- JUST FOR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e will use a process based on big ideas to learning goals to preplanned consolidating to going back to rest of le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PQ template in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ny grade levels- starting with grade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uld have used a different big idea, but chose not to- have to ch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goal is bigger than just doing a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urriculum specific, assessable and concep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elps focus you on where you are go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ctualizing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lk to a 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art by returning to the video sample we saw in plenary 2- looking for a fraction slightly greater than 2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ltice allows for some cho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at’s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iltering expectations- how does it feel? good? nervo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member= more coming so unsettled makes 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not a sk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out for some open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ocus is on the fact that rate problems are always about equivalent re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I picked 3200 and 1200 since half of 32 is not 12 (it’s 16), but you could use half of 32 for 16 and half of that for 8 and go 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ooking at last consolidation (download problem)- what would you do to get there? what activi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ork with a partner to come up with an idea=-- we will share 1 or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that 2/3 is between 1/2 and 3/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 is a sheet circulating that will give you a choice about what consolidation questions to use to assess accomplishment of a particular goal. Choose one and discuss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hoices are grades 1, 3, 5, 7 and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scuss which you like better and why-- we will hear from a f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One way to show it is using a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lack is graph of y = 2/3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d is graph of y = 3/4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lue is graph of y = 2.5/3.5 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 half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ut will it alway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uppose one line (top black) is above another (bottom bl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ice that I formed a parallel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oordinates of the top right vertex are 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alfway is middle,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udents watch video and raise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 video to solve problems they pro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scalator video- usually clock (not on one you will see, thou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atch going up with time, going down with time and ask about going up a down escalator when only part of it is sh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inds of questions re how fast things are mo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fast rain is coming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fast windshield wiper blades are moving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A640-B63F-43DA-BC13-0918B902E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3D1B-2254-4974-9C97-DC0A6F1C5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A0DF-AED3-451E-8B3A-0BFF8D113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2679-8573-4C19-99DF-B4F4EB8C6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B946-57AF-45B1-B160-CF190B205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8D10-9943-4E2C-8D23-CB8747B3B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4153-8667-404B-9EE9-6C51BF818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49A1-098A-4B41-B6B5-B8660C5C2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12C4-F134-40D9-A0D7-3D76C0964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B602-C7EB-423B-ACDC-A95102FA8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ED8E-6469-4DA2-87A6-B495E1BFE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35C6-AC25-439E-B4B8-47F042E63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AADE-9DBB-4A02-BC28-4129E455FD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2201-855F-46E2-8840-6EBB699A99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12520" y="534960"/>
            <a:ext cx="7358040" cy="5073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39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9760" indent="-5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what problem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39760" indent="-5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what ideas?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239760" indent="-52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why valuable?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art here instead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519280" cy="324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401920" cy="308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402000" y="1963800"/>
            <a:ext cx="222408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2b5ca9"/>
                </a:solidFill>
                <a:latin typeface="Arial"/>
              </a:rPr>
              <a:t>instincts</a:t>
            </a:r>
            <a:endParaRPr b="0" lang="en-US" sz="73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3520" y="1945800"/>
            <a:ext cx="7358040" cy="44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oose one expectation on handout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iscuss current focus; likely assess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b5ca9"/>
                </a:solidFill>
                <a:latin typeface="Arial"/>
              </a:rPr>
              <a:t>what matters? </a:t>
            </a:r>
            <a:endParaRPr b="0" lang="en-US" sz="4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96960" y="1963800"/>
            <a:ext cx="711684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Gill Sans"/>
              </a:rPr>
              <a:t>Grade 2 expectation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Gill Sans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Gill Sans"/>
              </a:rPr>
              <a:t>Estimate, count, and represent (using the ¢ symbol) the value of a collection of coins with a maximum value of one dolla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 ide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58880" y="2424240"/>
            <a:ext cx="793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Gill Sans"/>
              </a:rPr>
              <a:t>Numbers are compared in many way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55960"/>
            <a:ext cx="9144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2" marL="239760" indent="-239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Students will be able to determine how to represent a cent amount using only one type of co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54440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64440" rIns="0" tIns="32040" bIns="32040" anchor="ctr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8 nick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or fewer dimes? 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many? how do you kn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b5ca9"/>
                </a:solidFill>
                <a:latin typeface="Arial"/>
                <a:ea typeface="Arial"/>
              </a:rPr>
              <a:t>what would a great answer look like?  (success criteria)</a:t>
            </a:r>
            <a:endParaRPr b="0" lang="en-US" sz="4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tudents co-constructing criteria for a good answ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here would they focu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pefully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to skip counting by 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dimes since worth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f 2:1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ope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wo different amount you could show with eithr only nickels or only d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numbers of nickels and d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eaching toward 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ar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7715160" y="5402160"/>
            <a:ext cx="14353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tend to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responses, organizatio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atters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e 4 expec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 an understanding of simple multiplicative relatioships involving unit rates, through investigation using concret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lated big ide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ing numbers provides information about characteristics of the numbers in the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recognize what costs are possible or impossible based on a particular uni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9480" y="154440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chool picni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ral prices over $100 she could have spent and several she could not have spent and how you kn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208480" y="1838160"/>
            <a:ext cx="1509840" cy="15368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6896160" y="267048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$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83560" y="324180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b5ca9"/>
                </a:solidFill>
                <a:latin typeface="Arial"/>
                <a:ea typeface="Arial"/>
              </a:rPr>
              <a:t>what would a great answer look like?  (success criteria)</a:t>
            </a:r>
            <a:endParaRPr b="0" lang="en-US" sz="4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tudents co-constructing criteria for a good answ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where would they focus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3520" y="141912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alues in each category with focus  on jus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y not two consecutive number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y no numbers not four apa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893520" y="391680"/>
            <a:ext cx="7358040" cy="171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pefully..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93520" y="32184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dd numbers not possible and wh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akes a known multiple of 4 and keeps adding 4 to i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3520" y="1347480"/>
            <a:ext cx="7358040" cy="4019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wo insights or questions to ask for later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o this point.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atters?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7880" y="130320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Grade 6 expec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 problems that arise from real-life situations and that relate to the magnitude of whole numbers up to 1 000 00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Greater 2-3rds_Stude#2F00D1.mov" descr="Final Plenary 3.ppt_media/Greater 2-3rds_Student Pair 3-1.mov"/>
          <p:cNvPicPr/>
          <p:nvPr/>
        </p:nvPicPr>
        <p:blipFill>
          <a:blip r:embed="rId1"/>
          <a:stretch/>
        </p:blipFill>
        <p:spPr>
          <a:xfrm>
            <a:off x="0" y="-184320"/>
            <a:ext cx="9205920" cy="61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5ca9"/>
                </a:solidFill>
                <a:latin typeface="Arial"/>
              </a:rPr>
              <a:t>big idea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6720" y="1419120"/>
            <a:ext cx="7358040" cy="4019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are many equivalent representations for a numerical relationship. Each one may be useful in a different circumstanc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4880" y="118692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udents will recognize that changing the form of a relationship using proportional thinking can be useful to solving a proble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7358040" cy="474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bout how long for a 1200 kB file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ther useful equivalent rates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381480" y="2236320"/>
            <a:ext cx="5824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Gill Sans"/>
              </a:rPr>
              <a:t>Downloaded 3200 kB in 4 sec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49408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what would students value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2b5ca9"/>
                </a:solidFill>
                <a:latin typeface="Arial"/>
              </a:rPr>
              <a:t>what would a great answer look like?</a:t>
            </a:r>
            <a:endParaRPr b="0" lang="en-US" sz="52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ocus on the conceptua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hy new description is equivalen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014840" y="24289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5192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why new description is useful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93520" y="-36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936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tivity to get to consolid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old"/>
                <a:ea typeface="Arial Bold"/>
              </a:rPr>
              <a:t>Grade 9 expect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 problems involving ratios, rates, and directly proportional relationships in various contexts using a variety of meth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atters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 ide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3520" y="150948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re are many equivalent representations for a numerical relationship. Each may be more useful in a particular situation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sson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ill recognize that determining correct distances on a scale diagram or real distances from a scale diagram involves creating equivalents to the scale ratio or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.5/3.5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5840" y="1517400"/>
            <a:ext cx="7358040" cy="401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between 2/3 and 3/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2/3 is between 1/2 and 3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laces on diagram 12 cm apart;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m apart for re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says enough info to know about any two locations on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or disagree? Explain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209680" y="990720"/>
            <a:ext cx="4867560" cy="893520"/>
          </a:xfrm>
          <a:prstGeom prst="leftRightArrow">
            <a:avLst>
              <a:gd name="adj1" fmla="val 32000"/>
              <a:gd name="adj2" fmla="val 43959"/>
            </a:avLst>
          </a:prstGeom>
          <a:gradFill rotWithShape="0">
            <a:gsLst>
              <a:gs pos="0">
                <a:srgbClr val="074eb3"/>
              </a:gs>
              <a:gs pos="100000">
                <a:srgbClr val="0b3280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803960" y="18748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199280" y="187488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ill San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everywhere: an equivalent rate (6m /12 cm) or ratio (600:12)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would explain how to get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  <a:ea typeface="Arial"/>
              </a:rPr>
              <a:t>would justify why can’t have a different ratio in one part of the diagram as anoth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94880" y="213840"/>
            <a:ext cx="7358040" cy="5072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osing consolidation ques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7358040" cy="2629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 your consolid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velop activity to get to th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02800" y="1204560"/>
            <a:ext cx="7358040" cy="529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points from earlier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any change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ideas? concern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93520" y="-98280"/>
            <a:ext cx="7358040" cy="1714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this point.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776160" y="946080"/>
            <a:ext cx="6707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25320" y="179280"/>
            <a:ext cx="7723440" cy="50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b5ca9"/>
                </a:solidFill>
                <a:latin typeface="Arial"/>
              </a:rPr>
              <a:t>what to teach?</a:t>
            </a:r>
            <a:endParaRPr b="0" lang="en-US" sz="4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62388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spired by an id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-25920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88600" y="2553840"/>
            <a:ext cx="4125960" cy="232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an Meyer” type probl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054840" y="1295280"/>
            <a:ext cx="208908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???#2F00D3.mov" descr="Final Plenary 3.ppt_media/‪Hurricane Destruction‬‏ - YouTube-1.mov"/>
          <p:cNvPicPr/>
          <p:nvPr/>
        </p:nvPicPr>
        <p:blipFill>
          <a:blip r:embed="rId1"/>
          <a:stretch/>
        </p:blipFill>
        <p:spPr>
          <a:xfrm>
            <a:off x="1330200" y="7920"/>
            <a:ext cx="648360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.yearley</cp:lastModifiedBy>
  <dcterms:modified xsi:type="dcterms:W3CDTF">2011-08-19T18:11:29Z</dcterms:modified>
  <cp:revision>8</cp:revision>
  <dc:subject/>
  <dc:title>&lt;Title&gt;</dc:title>
</cp:coreProperties>
</file>